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9A2-110B-48E6-9607-7BF456BE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BB2-4C61-419C-A9C5-789805B2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60F-6653-40B9-BF22-6866E45C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264-CA43-4916-A3C7-978FDCBD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E571-5984-4410-A413-7B12F873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0F13-0F4C-4820-A20B-BD79F459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671A-FB75-4836-BC8D-C652FD04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8DA2-4413-4F21-8524-433302C2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87AA-EE01-4DDA-99DB-790FF544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8423-D682-47C5-8AB1-30C1B94A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12D9-093A-4814-AFCA-648AFDF3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EE3-FF0C-4092-9D6A-5E2960DE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0833-F844-47AF-BF02-5E7194F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C5B3-6FD7-4D7E-A1AF-188C0506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202C-4656-4A6B-862F-4B5F95CF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332D-431B-44EB-91F3-A2A9A8E7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E3EB-9755-4169-A474-83A218A1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644-D811-4FD2-B53F-09279C6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122-E382-4B84-9161-A2B06650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831-6184-4657-969F-00EB385C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5E6-7A72-402C-9CC0-72F274A9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BAE-7D07-4FD4-8E89-413F714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052-CC32-477C-8175-40D17206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CFD-A3FB-48D4-ABE1-D8EEB7A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F67-D7AC-485E-B19F-E84506E372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B5A5-27AF-4111-A774-95940872E5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47680" y="1096920"/>
            <a:ext cx="7358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f these sentences were in Greek, which case would the underlined word be 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lik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lectur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teacher'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oice is bo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am cooking for m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wif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studen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at many c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have the books of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fri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are making a hat 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the tut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hat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ssay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a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nd too quick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708520" y="20527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700600" y="25988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708520" y="31114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689440" y="36450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5702400" y="42022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702400" y="4741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5703840" y="5307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5703840" y="58532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73CCE054-0A58-45ED-A8E6-4D684A77B14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946DA582-C88C-4865-A0E7-AC1EFAD6752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57200" y="160956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of these could be vocativ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2000160" y="2346480"/>
            <a:ext cx="25718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eft Arrow 6"/>
          <p:cNvSpPr/>
          <p:nvPr/>
        </p:nvSpPr>
        <p:spPr>
          <a:xfrm>
            <a:off x="4246560" y="321480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 Arrow 7"/>
          <p:cNvSpPr/>
          <p:nvPr/>
        </p:nvSpPr>
        <p:spPr>
          <a:xfrm>
            <a:off x="4233960" y="44672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eft Arrow 8"/>
          <p:cNvSpPr/>
          <p:nvPr/>
        </p:nvSpPr>
        <p:spPr>
          <a:xfrm>
            <a:off x="4227480" y="505944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4154400" y="25131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4164120" y="3753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78724716-D842-4C3F-BED1-6D1D6783517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857760" y="2016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193920" y="220680"/>
            <a:ext cx="100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27"/>
          <p:cNvSpPr/>
          <p:nvPr/>
        </p:nvSpPr>
        <p:spPr>
          <a:xfrm>
            <a:off x="511200" y="1292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214200" y="1785960"/>
            <a:ext cx="4500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ω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 λογους αὐτου διδασκ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ουσιν  αὐ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 την φωνην αὐτ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 καλει αὐτ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214200" y="4313160"/>
            <a:ext cx="49294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see the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keeps the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loves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4513320" y="18828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lov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4506840" y="237024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teaching his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4506840" y="2878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500720" y="33829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ear her 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4500720" y="38782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ul is call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4500720" y="4403880"/>
            <a:ext cx="400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ουσιν τον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4506840" y="4896000"/>
            <a:ext cx="400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ει το τεκνο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4500720" y="5370480"/>
            <a:ext cx="46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φιλει τα τεκνα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28760" y="1285920"/>
            <a:ext cx="9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ive the case and number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878360" y="2227320"/>
            <a:ext cx="38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879800" y="274788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857840" y="323208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4857840" y="371628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857840" y="4226040"/>
            <a:ext cx="58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857840" y="4721400"/>
            <a:ext cx="57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4857840" y="5207040"/>
            <a:ext cx="51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4857840" y="5695920"/>
            <a:ext cx="41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62965820-1944-4533-B209-9F4D4B97256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1571760" y="2155680"/>
            <a:ext cx="3214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οσμ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μ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A6EC4D97-3A58-4492-992E-A709D754BB5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42920" y="96840"/>
            <a:ext cx="86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PECIAL USES OF THE GEN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7"/>
          <p:cNvSpPr/>
          <p:nvPr/>
        </p:nvSpPr>
        <p:spPr>
          <a:xfrm>
            <a:off x="357120" y="1370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357120" y="207180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 τον ἀγγελου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ομεν τῳ Χρισ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ετε τους λογ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They hear Go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I believe the lor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4929120" y="22525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ear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929120" y="28576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sees the angel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29120" y="346248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ave faith in the Messi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4929120" y="4071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hear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4929120" y="46944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υσιν τον θε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929120" y="531648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ω τῳ κυρι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27"/>
          <p:cNvSpPr/>
          <p:nvPr/>
        </p:nvSpPr>
        <p:spPr>
          <a:xfrm>
            <a:off x="414360" y="1214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178596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ομεν τον νομον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ουλοι λαλουσιν τῳ κυρι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ζητω τον οἰκον του Χρισ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ιειτε ἀρτον τοις ἀδελφ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1280" y="46483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ὀχλος ἀκουει τον λογ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7760" y="541512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 τον ἀγγελον κ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ει του ἀγγελ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32448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7E46CAC0-2EE1-4A2E-B0D7-AC5CEB3BE64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929120" y="178596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have the law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929120" y="219384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laves are spe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929120" y="300996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seeking the ho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 Ch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948200" y="3836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are making b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br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941720" y="4635360"/>
            <a:ext cx="44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rowd hear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d of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929120" y="54100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sees the angel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listens to the an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E00A9064-22D7-4D76-A274-1E4FA90366A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27"/>
          <p:cNvSpPr/>
          <p:nvPr/>
        </p:nvSpPr>
        <p:spPr>
          <a:xfrm>
            <a:off x="414360" y="12524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1785960"/>
            <a:ext cx="63579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ει τῳ υἱῳ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ἀδελφος λυει δουλον τ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υρ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teach the word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hear the son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71280" y="4065480"/>
            <a:ext cx="60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keep the law of hea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1280" y="47656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speak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492912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has faith in the son of Go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929120" y="2193840"/>
            <a:ext cx="4214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rother unties a slave for the Lor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4948200" y="28972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ασκω τον λογον το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   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4948200" y="359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ουσιν τον υἱ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4941720" y="4059360"/>
            <a:ext cx="44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ρουμεν τον νομον (του) ὀυρα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4941720" y="4813200"/>
            <a:ext cx="44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Gentium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ς 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τε) τῳ ὀχλ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9F440B65-7121-46F4-B45B-7A0CEFC7539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21428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case and number are the following words in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2071800"/>
            <a:ext cx="27860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π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ὐαγγελι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η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αι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ψυ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αιμον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071960" y="214956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071960" y="266868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071960" y="31640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4071960" y="36892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4071960" y="4194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4071960" y="47023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4071960" y="51894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070520" y="5695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E18D9FDD-2B45-4EFE-9FD8-368AD49450D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00040" y="1241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part of the definite article would agree with the following noun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785960" y="2189160"/>
            <a:ext cx="328608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π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ω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832280" y="2273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824360" y="277344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4826160" y="3274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824360" y="37800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827600" y="4289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824360" y="47941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4829040" y="53053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4827600" y="5830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10F17FFE-6557-4B04-B737-42701A93B79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571680" y="1214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143000" y="1643040"/>
            <a:ext cx="40006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ιβ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κ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ω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ων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3714840" y="1735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OR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720960" y="22417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3714840" y="27655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714840" y="328608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 Masculine OR Ne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3714840" y="3767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3714840" y="42609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708360" y="47656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3701880" y="5286240"/>
            <a:ext cx="50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3713040" y="57927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Practice </a:t>
            </a:r>
            <a:fld id="{FBB9A2B3-DA8D-49DC-873C-5DAB6F4ABC9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571680" y="1285920"/>
            <a:ext cx="66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the article and noun in the following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1071720" y="1676520"/>
            <a:ext cx="3571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Χρισ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α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 ὡρ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 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εὐαγγε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ν 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ς 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Παυ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ς  ἁμαρτιαν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975200" y="1773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954680" y="22622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62600" y="2773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4954680" y="33037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962600" y="37987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4952880" y="43052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4952880" y="48070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4952880" y="532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960800" y="5832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3:36:33Z</dcterms:created>
  <dc:creator>Sarah</dc:creator>
  <dc:description/>
  <dc:language>en-US</dc:language>
  <cp:lastModifiedBy>Sarah</cp:lastModifiedBy>
  <dcterms:modified xsi:type="dcterms:W3CDTF">2009-03-02T23:12:29Z</dcterms:modified>
  <cp:revision>79</cp:revision>
  <dc:subject/>
  <dc:title>Slide 1</dc:title>
</cp:coreProperties>
</file>